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5486400" cy="411480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AutoShape 2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3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4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AutoShape 5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AutoShape 6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AutoShape 7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AutoShape 8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AutoShape 9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AutoShape 10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AutoShape 1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AutoShape 12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AutoShape 13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AutoShape 14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AutoShape 15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AutoShape 16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AutoShape 17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AutoShape 18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AutoShape 19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AutoShape 20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AutoShape 2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AutoShape 22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AutoShape 23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AutoShape 24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AutoShape 25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AutoShape 26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AutoShape 27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AutoShape 28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AutoShape 29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AutoShape 30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AutoShape 3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AutoShape 32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AutoShape 33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AutoShape 34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AutoShape 35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AutoShape 36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AutoShape 37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AutoShape 38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AutoShape 39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AutoShape 40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4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AutoShape 42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AutoShape 43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AutoShape 44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45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AutoShape 46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AutoShape 47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AutoShape 48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AutoShape 49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AutoShape 50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AutoShape 5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AutoShape 52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AutoShape 53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AutoShape 54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AutoShape 55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AutoShape 56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AutoShape 57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AutoShape 58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AutoShape 59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AutoShape 60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AutoShape 6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AutoShape 62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AutoShape 63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AutoShape 64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AutoShape 65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AutoShape 66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AutoShape 67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AutoShape 68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AutoShape 69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AutoShape 70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AutoShape 7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AutoShape 72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AutoShape 73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AutoShape 74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AutoShape 75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AutoShape 76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AutoShape 77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AutoShape 78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49039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808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777960" y="4776840"/>
            <a:ext cx="60926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4792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dt" idx="1"/>
          </p:nvPr>
        </p:nvSpPr>
        <p:spPr>
          <a:xfrm>
            <a:off x="4398480" y="-360"/>
            <a:ext cx="32482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ftr" idx="2"/>
          </p:nvPr>
        </p:nvSpPr>
        <p:spPr>
          <a:xfrm>
            <a:off x="0" y="9555120"/>
            <a:ext cx="324792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 type="sldNum" idx="3"/>
          </p:nvPr>
        </p:nvSpPr>
        <p:spPr>
          <a:xfrm>
            <a:off x="4398480" y="9555120"/>
            <a:ext cx="32482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36159C-A132-4AA8-BB6B-99DD1732F91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84"/>
          <p:cNvSpPr/>
          <p:nvPr/>
        </p:nvSpPr>
        <p:spPr>
          <a:xfrm>
            <a:off x="4398840" y="9555120"/>
            <a:ext cx="32482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7D1388-7E46-48C5-819D-3D9850845F3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 Box 1"/>
          <p:cNvSpPr/>
          <p:nvPr/>
        </p:nvSpPr>
        <p:spPr>
          <a:xfrm>
            <a:off x="1371600" y="763560"/>
            <a:ext cx="5000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094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84"/>
          <p:cNvSpPr/>
          <p:nvPr/>
        </p:nvSpPr>
        <p:spPr>
          <a:xfrm>
            <a:off x="4398840" y="9555120"/>
            <a:ext cx="32482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09CC3A-30F7-478C-B34A-E4D43E61FF8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11120" y="763560"/>
            <a:ext cx="5024520" cy="376884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960" y="4776840"/>
            <a:ext cx="60926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79440" y="125280"/>
            <a:ext cx="4757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52440" y="842760"/>
            <a:ext cx="4764240" cy="126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52440" y="2233440"/>
            <a:ext cx="4764240" cy="126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79440" y="125280"/>
            <a:ext cx="4757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52440" y="842760"/>
            <a:ext cx="2324880" cy="126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793960" y="842760"/>
            <a:ext cx="2324880" cy="126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52440" y="2233440"/>
            <a:ext cx="2324880" cy="126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2793960" y="2233440"/>
            <a:ext cx="2324880" cy="126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79440" y="125280"/>
            <a:ext cx="4757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52440" y="842760"/>
            <a:ext cx="1533960" cy="126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963440" y="842760"/>
            <a:ext cx="1533960" cy="126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3574440" y="842760"/>
            <a:ext cx="1533960" cy="126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52440" y="2233440"/>
            <a:ext cx="1533960" cy="126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1963440" y="2233440"/>
            <a:ext cx="1533960" cy="126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3574440" y="2233440"/>
            <a:ext cx="1533960" cy="126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79440" y="125280"/>
            <a:ext cx="4757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52440" y="842760"/>
            <a:ext cx="4764240" cy="266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indent="0" algn="ctr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79440" y="125280"/>
            <a:ext cx="4757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52440" y="842760"/>
            <a:ext cx="4764240" cy="266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79440" y="125280"/>
            <a:ext cx="4757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52440" y="842760"/>
            <a:ext cx="2324880" cy="266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2793960" y="842760"/>
            <a:ext cx="2324880" cy="266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79440" y="125280"/>
            <a:ext cx="4757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79440" y="125280"/>
            <a:ext cx="4757760" cy="27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algn="ctr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79440" y="125280"/>
            <a:ext cx="4757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52440" y="842760"/>
            <a:ext cx="2324880" cy="126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2793960" y="842760"/>
            <a:ext cx="2324880" cy="266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52440" y="2233440"/>
            <a:ext cx="2324880" cy="126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79440" y="125280"/>
            <a:ext cx="4757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52440" y="842760"/>
            <a:ext cx="2324880" cy="266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2793960" y="842760"/>
            <a:ext cx="2324880" cy="126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2793960" y="2233440"/>
            <a:ext cx="2324880" cy="126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79440" y="125280"/>
            <a:ext cx="4757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52440" y="842760"/>
            <a:ext cx="2324880" cy="126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2793960" y="842760"/>
            <a:ext cx="2324880" cy="126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52440" y="2233440"/>
            <a:ext cx="4764240" cy="126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0" y="3673440"/>
            <a:ext cx="4479840" cy="265320"/>
          </a:xfrm>
          <a:prstGeom prst="roundRect">
            <a:avLst>
              <a:gd name="adj" fmla="val 255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379440" y="3679920"/>
            <a:ext cx="2176560" cy="258840"/>
          </a:xfrm>
          <a:prstGeom prst="roundRect">
            <a:avLst>
              <a:gd name="adj" fmla="val 255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ONE LAPTOP PER CHILD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79440" y="125280"/>
            <a:ext cx="4757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808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52440" y="842760"/>
            <a:ext cx="4764240" cy="266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7800" indent="-27288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71440" indent="-12528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3440" indent="-10008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19368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19368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19368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6"/>
          <p:cNvSpPr/>
          <p:nvPr/>
        </p:nvSpPr>
        <p:spPr>
          <a:xfrm>
            <a:off x="296640" y="3940200"/>
            <a:ext cx="2760840" cy="17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This works are licensed under a Creative Commons Attribution 2.5 License. </a:t>
            </a:r>
            <a:endParaRPr b="0" lang="en-US" sz="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" name="Picture 7" descr=""/>
          <p:cNvPicPr/>
          <p:nvPr/>
        </p:nvPicPr>
        <p:blipFill>
          <a:blip r:embed="rId2"/>
          <a:stretch/>
        </p:blipFill>
        <p:spPr>
          <a:xfrm>
            <a:off x="4325760" y="3649680"/>
            <a:ext cx="1143000" cy="338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79440" y="1609200"/>
            <a:ext cx="4819680" cy="42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8080"/>
                </a:solidFill>
                <a:latin typeface="Arial"/>
              </a:rPr>
              <a:t>One Laptop per Child</a:t>
            </a: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128" name="AutoShape 2"/>
          <p:cNvSpPr/>
          <p:nvPr/>
        </p:nvSpPr>
        <p:spPr>
          <a:xfrm>
            <a:off x="0" y="2895480"/>
            <a:ext cx="5486400" cy="762120"/>
          </a:xfrm>
          <a:prstGeom prst="roundRect">
            <a:avLst>
              <a:gd name="adj" fmla="val 171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Lapto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Sept. 18, 2008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Picture 3" descr=""/>
          <p:cNvPicPr/>
          <p:nvPr/>
        </p:nvPicPr>
        <p:blipFill>
          <a:blip r:embed="rId1"/>
          <a:stretch/>
        </p:blipFill>
        <p:spPr>
          <a:xfrm>
            <a:off x="0" y="568440"/>
            <a:ext cx="5486400" cy="167328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4"/>
          <p:cNvSpPr/>
          <p:nvPr/>
        </p:nvSpPr>
        <p:spPr>
          <a:xfrm>
            <a:off x="1220040" y="1981080"/>
            <a:ext cx="307620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b3b3b3"/>
                </a:solidFill>
                <a:latin typeface="Arial"/>
              </a:rPr>
              <a:t>One Laptop per Chil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79440" y="125280"/>
            <a:ext cx="4757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8080"/>
                </a:solidFill>
                <a:latin typeface="Arial"/>
              </a:rPr>
              <a:t>XO Robustness</a:t>
            </a: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52440" y="842760"/>
            <a:ext cx="4764240" cy="266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7800" indent="-27288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sk drive 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7800" indent="-27288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fans 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7800" indent="-27288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urdy c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BS/PC bump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el plate in b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7800" indent="-27288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5 m drop t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7800" indent="-27288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ter and dust proof keybo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7800" indent="-27288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 year life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4" descr="_x001f_quanta-computer-olpc#2AB24A.JPG                                0007FFF5_x0008_Repo-Man                       C17146F9:"/>
          <p:cNvPicPr/>
          <p:nvPr/>
        </p:nvPicPr>
        <p:blipFill>
          <a:blip r:embed="rId1"/>
          <a:stretch/>
        </p:blipFill>
        <p:spPr>
          <a:xfrm>
            <a:off x="3124080" y="685800"/>
            <a:ext cx="2138400" cy="17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79440" y="125280"/>
            <a:ext cx="4757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8080"/>
                </a:solidFill>
                <a:latin typeface="Arial"/>
              </a:rPr>
              <a:t>XO - Simple to repair</a:t>
            </a: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52440" y="842760"/>
            <a:ext cx="4764240" cy="266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7800" indent="-27288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ight screws to replace 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7800" indent="-27288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ngle motherbo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4" descr="_x0014_JSJTZRIBTgFnD5HO.jpg                                           0007FFF5_x0008_Repo-Man                       C17146F9:"/>
          <p:cNvPicPr/>
          <p:nvPr/>
        </p:nvPicPr>
        <p:blipFill>
          <a:blip r:embed="rId1"/>
          <a:stretch/>
        </p:blipFill>
        <p:spPr>
          <a:xfrm>
            <a:off x="2666880" y="1504800"/>
            <a:ext cx="2667240" cy="20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79440" y="125280"/>
            <a:ext cx="4757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8080"/>
                </a:solidFill>
                <a:latin typeface="Arial"/>
              </a:rPr>
              <a:t>XO Gen 2 Goals</a:t>
            </a: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52440" y="842760"/>
            <a:ext cx="4764240" cy="266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7800" indent="0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in 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7800" indent="0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7800" indent="-27288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wer Po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7800" indent="-27288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wer C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7800" indent="-27288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Robu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7800" indent="-27288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Perform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4" descr="_x000b_sitting.jpg                                                    0007FFF5_x0008_Repo-Man                       C17146F9:"/>
          <p:cNvPicPr/>
          <p:nvPr/>
        </p:nvPicPr>
        <p:blipFill>
          <a:blip r:embed="rId1"/>
          <a:stretch/>
        </p:blipFill>
        <p:spPr>
          <a:xfrm>
            <a:off x="2666880" y="1752480"/>
            <a:ext cx="2514600" cy="16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79440" y="125280"/>
            <a:ext cx="4757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8080"/>
                </a:solidFill>
                <a:latin typeface="Arial"/>
              </a:rPr>
              <a:t>Roadmap</a:t>
            </a: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161" name="Line 3"/>
          <p:cNvSpPr/>
          <p:nvPr/>
        </p:nvSpPr>
        <p:spPr>
          <a:xfrm>
            <a:off x="380880" y="1143000"/>
            <a:ext cx="46483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Rectangle 4"/>
          <p:cNvSpPr/>
          <p:nvPr/>
        </p:nvSpPr>
        <p:spPr>
          <a:xfrm>
            <a:off x="457200" y="1447920"/>
            <a:ext cx="1143000" cy="2286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Rectangle 5"/>
          <p:cNvSpPr/>
          <p:nvPr/>
        </p:nvSpPr>
        <p:spPr>
          <a:xfrm>
            <a:off x="1600200" y="1676520"/>
            <a:ext cx="1371600" cy="2286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Line 6"/>
          <p:cNvSpPr/>
          <p:nvPr/>
        </p:nvSpPr>
        <p:spPr>
          <a:xfrm flipV="1">
            <a:off x="990720" y="99036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Line 7"/>
          <p:cNvSpPr/>
          <p:nvPr/>
        </p:nvSpPr>
        <p:spPr>
          <a:xfrm flipV="1">
            <a:off x="2438280" y="99036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Line 8"/>
          <p:cNvSpPr/>
          <p:nvPr/>
        </p:nvSpPr>
        <p:spPr>
          <a:xfrm flipV="1">
            <a:off x="3886200" y="99036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Text Box 9"/>
          <p:cNvSpPr/>
          <p:nvPr/>
        </p:nvSpPr>
        <p:spPr>
          <a:xfrm>
            <a:off x="380880" y="609480"/>
            <a:ext cx="58752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6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0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Text Box 10"/>
          <p:cNvSpPr/>
          <p:nvPr/>
        </p:nvSpPr>
        <p:spPr>
          <a:xfrm>
            <a:off x="1600200" y="609480"/>
            <a:ext cx="58752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6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 Box 11"/>
          <p:cNvSpPr/>
          <p:nvPr/>
        </p:nvSpPr>
        <p:spPr>
          <a:xfrm>
            <a:off x="2971800" y="609480"/>
            <a:ext cx="58752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6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1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Text Box 12"/>
          <p:cNvSpPr/>
          <p:nvPr/>
        </p:nvSpPr>
        <p:spPr>
          <a:xfrm>
            <a:off x="380880" y="1219320"/>
            <a:ext cx="152424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ly prototyp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Rectangle 13"/>
          <p:cNvSpPr/>
          <p:nvPr/>
        </p:nvSpPr>
        <p:spPr>
          <a:xfrm>
            <a:off x="2971800" y="1905120"/>
            <a:ext cx="2133720" cy="2286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Text Box 14"/>
          <p:cNvSpPr/>
          <p:nvPr/>
        </p:nvSpPr>
        <p:spPr>
          <a:xfrm>
            <a:off x="1598040" y="1447920"/>
            <a:ext cx="118368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-produc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 Box 15"/>
          <p:cNvSpPr/>
          <p:nvPr/>
        </p:nvSpPr>
        <p:spPr>
          <a:xfrm>
            <a:off x="3123000" y="1676520"/>
            <a:ext cx="91224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Rectangle 16"/>
          <p:cNvSpPr/>
          <p:nvPr/>
        </p:nvSpPr>
        <p:spPr>
          <a:xfrm>
            <a:off x="2209680" y="990720"/>
            <a:ext cx="1843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Text Box 17"/>
          <p:cNvSpPr/>
          <p:nvPr/>
        </p:nvSpPr>
        <p:spPr>
          <a:xfrm>
            <a:off x="77040" y="1600200"/>
            <a:ext cx="62568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n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79440" y="125280"/>
            <a:ext cx="4757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8080"/>
                </a:solidFill>
                <a:latin typeface="Arial"/>
              </a:rPr>
              <a:t>Laptop, 1992</a:t>
            </a: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52440" y="842760"/>
            <a:ext cx="4764240" cy="266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7800" indent="0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e Macintosh Duo 2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40x400 (190x120mm) Monochrome Displ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3 MHz Process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 MB R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.1 GB disk stor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2 lb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4W charg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$28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7" descr="_x000f_Mac Duo 230.gif                                                0007FFF5_x0008_Repo-Man                       C17146F9:"/>
          <p:cNvPicPr/>
          <p:nvPr/>
        </p:nvPicPr>
        <p:blipFill>
          <a:blip r:embed="rId1"/>
          <a:stretch/>
        </p:blipFill>
        <p:spPr>
          <a:xfrm>
            <a:off x="3352680" y="1523880"/>
            <a:ext cx="1792440" cy="19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79440" y="125280"/>
            <a:ext cx="4757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8080"/>
                </a:solidFill>
                <a:latin typeface="Arial"/>
              </a:rPr>
              <a:t>Laptop, 2008</a:t>
            </a: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52440" y="842760"/>
            <a:ext cx="4764240" cy="266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7800" indent="0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e MacBook P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440 x 900 (332x208mm) Color displ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GHz Dual Process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raphics Coprocess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00 MB R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60 GB disk stor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.4 lb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5W charg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$28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5" descr="_x0012_MacBook Pro 15.jpg                                             0007FFF5_x0008_Repo-Man                       C17146F9:"/>
          <p:cNvPicPr/>
          <p:nvPr/>
        </p:nvPicPr>
        <p:blipFill>
          <a:blip r:embed="rId1"/>
          <a:stretch/>
        </p:blipFill>
        <p:spPr>
          <a:xfrm>
            <a:off x="2895480" y="1523880"/>
            <a:ext cx="246384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79440" y="125280"/>
            <a:ext cx="4757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8080"/>
                </a:solidFill>
                <a:latin typeface="Arial"/>
              </a:rPr>
              <a:t>Traditional Laptops</a:t>
            </a: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52440" y="842760"/>
            <a:ext cx="4764240" cy="266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7800" indent="-27288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inual improvemen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re computing pow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re non-volatile stor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7800" indent="-27288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tant Price Flo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7800" indent="-27288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igned for Office Environ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79440" y="125280"/>
            <a:ext cx="4757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8080"/>
                </a:solidFill>
                <a:latin typeface="Arial"/>
              </a:rPr>
              <a:t>Laptop, 2008</a:t>
            </a: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52440" y="842760"/>
            <a:ext cx="4764240" cy="266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7800" indent="0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PC X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200 x 900 (152x114mm) Color Displ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66 MHz Process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raphics Coprocess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56 MB R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 GB solid-state stor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45 k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7W charg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$2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4" descr="_x000b_olpc-xo.jpg                                                    0007FFF5_x0008_Repo-Man                       C17146F9:"/>
          <p:cNvPicPr/>
          <p:nvPr/>
        </p:nvPicPr>
        <p:blipFill>
          <a:blip r:embed="rId1"/>
          <a:stretch/>
        </p:blipFill>
        <p:spPr>
          <a:xfrm>
            <a:off x="3048120" y="1558800"/>
            <a:ext cx="2147760" cy="190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79440" y="125280"/>
            <a:ext cx="4757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8080"/>
                </a:solidFill>
                <a:latin typeface="Arial"/>
              </a:rPr>
              <a:t>Why an XO ?</a:t>
            </a: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52440" y="842760"/>
            <a:ext cx="4764240" cy="266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7800" indent="-27288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nlight Readable 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7800" indent="-27288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w Po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7800" indent="-27288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bust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 moving par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71440" indent="-12528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than butt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7800" indent="-27288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ple to Repa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79440" y="125280"/>
            <a:ext cx="4757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8080"/>
                </a:solidFill>
                <a:latin typeface="Arial"/>
              </a:rPr>
              <a:t>XO Display</a:t>
            </a: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52440" y="842760"/>
            <a:ext cx="4764240" cy="266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7800" indent="-27288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nlight readable (reflective/transmissiv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7800" indent="-27288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00 x 900 monochr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7800" indent="-27288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lightly less resolution in col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7800" indent="-27288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laceable LED backl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 power, low cost, saf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50 C, difficult to reach 5 year life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79440" y="125280"/>
            <a:ext cx="4757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8080"/>
                </a:solidFill>
                <a:latin typeface="Arial"/>
              </a:rPr>
              <a:t>XO Low Power</a:t>
            </a: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52440" y="842760"/>
            <a:ext cx="2543040" cy="266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7800" indent="-27288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pendently powered subsystem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pl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reless 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7800" indent="-27288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 suspend/ re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ns milliSe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7800" indent="-27288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D backl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4" descr="_x0011_Block Diagram.pdf                                              000D7019_x0008_Repo-Man                       C17146F9:"/>
          <p:cNvPicPr/>
          <p:nvPr/>
        </p:nvPicPr>
        <p:blipFill>
          <a:blip r:embed="rId1"/>
          <a:stretch/>
        </p:blipFill>
        <p:spPr>
          <a:xfrm>
            <a:off x="2362320" y="1371600"/>
            <a:ext cx="2984400" cy="22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79440" y="125280"/>
            <a:ext cx="4757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8080"/>
                </a:solidFill>
                <a:latin typeface="Arial"/>
              </a:rPr>
              <a:t>XO Power Management</a:t>
            </a: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80880" y="914400"/>
            <a:ext cx="476424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7800" indent="-27288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ry performance strongly dependent on software activity 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7800" indent="-27288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vailable today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rdware ready for suspend/resu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71440" indent="-12528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0K cycles tested vs. 20 for normal lapto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bout 4 hours of battery life during normal u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4-16 hours of battery life in sleep m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7800" indent="-27288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HM management for suspend/resu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ssive CPU suspen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>Camrbridge, MA
April 23-27, 2007
</dc:description>
  <dc:language>en-US</dc:language>
  <cp:lastModifiedBy> </cp:lastModifiedBy>
  <cp:lastPrinted>2008-09-18T14:58:32Z</cp:lastPrinted>
  <dcterms:modified xsi:type="dcterms:W3CDTF">2008-09-18T17:55:33Z</dcterms:modified>
  <cp:revision>81</cp:revision>
  <dc:subject/>
  <dc:title>One Laptop per Child</dc:title>
</cp:coreProperties>
</file>